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B03-D3BA-43A8-9310-F8F97AE0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7E8-1D40-45C5-928C-0EEB1710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278-1B0C-4C85-BD69-CBC6C623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838-746A-452E-B3BA-BA4F5E54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3042-E112-4150-B006-C1E822C1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F7B3-A617-465E-A7E3-FF97B3EA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8C93-38D3-495F-8726-C5163936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EB4A-9F12-4204-BB6F-E542B6B2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6AEE-B7D0-468A-8752-52BE3A86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44440"/>
            <a:ext cx="8386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CB1B-4ABB-44EB-99E8-86569DBE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FBFE-C92C-4D87-958B-85C19B19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2A4-17F2-4271-BBBC-108108EA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8547-6F92-443B-BEB4-13E2C40B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01A9-AA6B-4486-99AF-A5D6C3D7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AA4A-401E-46C3-9DB5-34A2D678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DC4A-2EB4-4160-960B-1CD8F174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D070-4718-4F8B-8182-A3B79E1E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122-77AA-486F-871F-7E9D4E7E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8DC-E43F-45DD-A306-69ACF2D9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78C-D976-40E4-AC01-EA17C899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4440"/>
            <a:ext cx="8386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8DA-C33C-4018-AFEA-710E8B5A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96C-6518-4CC8-90B4-288C8B8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978-0731-4107-83C4-821D216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85D-C72B-43CD-8024-D7BCC959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8080" y="6244920"/>
            <a:ext cx="1903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31D9-280A-42D8-8E19-FCF6136B7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3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9D87-A03D-433B-8526-17707126D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CATALYTIC SYNTHESIS OF ALCOHOL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76520" y="30481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g Dicos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 O’Br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n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sseb Quad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ina Mogol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838080"/>
            <a:ext cx="6477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523880" y="990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MICAL ENGINEERING DESIGN PROJ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5"/>
          <p:cNvSpPr/>
          <p:nvPr/>
        </p:nvSpPr>
        <p:spPr>
          <a:xfrm>
            <a:off x="762120" y="4114800"/>
            <a:ext cx="802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lant will be located in the Midwest  to keep feedstock transportation to less than 100 miles from the plant. Ideally, the plant location will have rail ac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lant will require at least 50 acres for operation and storage of switchgr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85800" y="3808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synthesis basis: 9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ifier synthesis basis: 8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grass yield basis (Dart mouth): 11.5 tons/ac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740,325 acres needed annu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er amount of steam and oxygen will be added to achieve a 2:1 molar ratio of hydrogen to carbon mon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a circular area around the plant  with a radius of less than 60 m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UMMAR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7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tic conversion of synthesis (syn) gas to higher-value chemicals such us methanol or butanol. Syn gas is produced from switchgrass via a thermochemical process called gasifi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838080" y="4038480"/>
            <a:ext cx="7467480" cy="990720"/>
            <a:chOff x="838080" y="4038480"/>
            <a:chExt cx="7467480" cy="990720"/>
          </a:xfrm>
        </p:grpSpPr>
        <p:sp>
          <p:nvSpPr>
            <p:cNvPr id="105" name="Rectangle 5"/>
            <p:cNvSpPr/>
            <p:nvPr/>
          </p:nvSpPr>
          <p:spPr>
            <a:xfrm>
              <a:off x="838080" y="4190760"/>
              <a:ext cx="1676160" cy="685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838080" y="43606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SWITCHGRAS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>
              <a:off x="2514240" y="457200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885840" y="4114800"/>
              <a:ext cx="121932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3962160" y="4343400"/>
              <a:ext cx="113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SYN 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5105160" y="457200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13"/>
            <p:cNvGrpSpPr/>
            <p:nvPr/>
          </p:nvGrpSpPr>
          <p:grpSpPr>
            <a:xfrm>
              <a:off x="6705360" y="4038480"/>
              <a:ext cx="1600200" cy="990360"/>
              <a:chOff x="6705360" y="4038480"/>
              <a:chExt cx="1600200" cy="990360"/>
            </a:xfrm>
          </p:grpSpPr>
          <p:sp>
            <p:nvSpPr>
              <p:cNvPr id="112" name="Rectangle 11"/>
              <p:cNvSpPr/>
              <p:nvPr/>
            </p:nvSpPr>
            <p:spPr>
              <a:xfrm>
                <a:off x="6705360" y="4038480"/>
                <a:ext cx="1600200" cy="9903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 Box 12"/>
              <p:cNvSpPr/>
              <p:nvPr/>
            </p:nvSpPr>
            <p:spPr>
              <a:xfrm>
                <a:off x="6781680" y="4190760"/>
                <a:ext cx="1447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 Black"/>
                  </a:rPr>
                  <a:t>METHANOL OR BUTANO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xt Box 16"/>
            <p:cNvSpPr/>
            <p:nvPr/>
          </p:nvSpPr>
          <p:spPr>
            <a:xfrm>
              <a:off x="2590560" y="4114800"/>
              <a:ext cx="121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GASIFICA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257440" y="4114800"/>
              <a:ext cx="1295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9"/>
            <p:cNvSpPr/>
            <p:nvPr/>
          </p:nvSpPr>
          <p:spPr>
            <a:xfrm>
              <a:off x="5181480" y="40384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CATALYTIC CONVER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613080" y="1219320"/>
            <a:ext cx="476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an energy sour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ew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ve to the central United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st Growing: 11.5 dry tons/ acre/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tle or no fertilizer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2845080" cy="2000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685800" y="39625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 Probl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we use it efficient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7238880" y="3429000"/>
            <a:ext cx="1341720" cy="3143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600200" y="380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FEEDSTOCK: SWITCHG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BACKGROUN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3123720"/>
            <a:ext cx="800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of the groundwork already lai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ol from corn (1:1)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ol from switchgrass (1:5)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grass 100 gal ethanol per 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914400" y="1219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Fuel Production from Switchgr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dvantages of Butanol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23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carbon alcohol, double the carbon of ethanol and 25% mor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Reid value of 0.33 psi, it is safer to handle than gas, 4.5, and ethanol,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drop in replacement for gaso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s no SOx, NOx, or carbon mon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83808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3 KBtu /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5760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4 KBtu /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78168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0 KBtu /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dependence on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house gas emissions 94% lower than gaso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 CO2 absorption from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soil ero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Environmental Benefit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6"/>
          <p:cNvGraphicFramePr/>
          <p:nvPr/>
        </p:nvGraphicFramePr>
        <p:xfrm>
          <a:off x="304920" y="171360"/>
          <a:ext cx="8229600" cy="65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1360"/>
                    <a:ext cx="82296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4"/>
          <p:cNvSpPr/>
          <p:nvPr/>
        </p:nvSpPr>
        <p:spPr>
          <a:xfrm>
            <a:off x="19810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SWITCHGRASS COMPOS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33720" y="1905120"/>
          <a:ext cx="4952880" cy="347508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lemental Compo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ss Fr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7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762120" y="1600200"/>
            <a:ext cx="810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on basis: Equivalent energy of 1,589,870 L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methanol – 3,090,866 L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needed: 40,253 Kg/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butanol – 1,894,777 L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needed: 43,620 Kg/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838080" y="396252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suming 44,000 Kg/Hr Carbon needed covers both c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838080" y="4572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DESIGN BASIS</a:t>
            </a: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8:53:28Z</dcterms:created>
  <dc:creator>Greg DiCosola</dc:creator>
  <dc:description/>
  <dc:language>en-US</dc:language>
  <cp:lastModifiedBy>Haseeb Quadri</cp:lastModifiedBy>
  <dcterms:modified xsi:type="dcterms:W3CDTF">2009-01-27T20:02:20Z</dcterms:modified>
  <cp:revision>19</cp:revision>
  <dc:subject/>
  <dc:title>Slide 1</dc:title>
</cp:coreProperties>
</file>